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2898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6E316-A77D-4922-912D-62C34A2CD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AC68-46BA-43E0-8A4D-885D5E958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426A6-1A13-4366-BA29-93BB2B7A8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4765-6DB9-4F2E-90DF-8A487A415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E9DF-02E9-47C3-8596-B4DFFC18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B63E5-6060-4FF2-9BE8-952A377E9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91872-A530-4A43-B7DA-54E4AC9D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B22FE-1CA1-4F24-81D3-CA4A19F16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9E14-1C4C-484D-B270-C712A133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3931-67CE-414E-8E62-EF7B6D62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F127-AB4C-41D8-B04F-67D7CF16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89606-24BD-43D3-8870-5230E76F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607A-F570-4F85-86C7-8AFCFA323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ТУБУЛОИНТЕРСТИЦИЈУМСКЕ БОЛЕСТИ БУБРЕГА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14960"/>
            <a:ext cx="6400800" cy="9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200" spc="-1" strike="noStrike">
                <a:solidFill>
                  <a:srgbClr val="000000"/>
                </a:solidFill>
                <a:latin typeface="Arial"/>
              </a:rPr>
              <a:t>Проф. др Ана Вујић</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
          <p:cNvPicPr/>
          <p:nvPr/>
        </p:nvPicPr>
        <p:blipFill>
          <a:blip r:embed="rId1"/>
          <a:stretch/>
        </p:blipFill>
        <p:spPr>
          <a:xfrm>
            <a:off x="3790800" y="428760"/>
            <a:ext cx="142884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457200" y="533520"/>
            <a:ext cx="8305920" cy="999900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Б.2.</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Дисфункција тубула</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a:t>
            </a:r>
            <a:r>
              <a:rPr b="0" lang="sl-SI" sz="2400" spc="-1" strike="noStrike">
                <a:solidFill>
                  <a:srgbClr val="000000"/>
                </a:solidFill>
                <a:latin typeface="Times New Roman"/>
                <a:ea typeface="Times New Roman"/>
              </a:rPr>
              <a:t>наци дисфункције проксималних каналића (гликозуриј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миноацидур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фосфатурија, проксимална РТА; тубул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теинурија-мање од 1г/24х и са виш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 50% бета 2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икроглобулина и др. протеина мале мол. тежине )</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знаци дисфункције дисталних и сабирних каналић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еркалијемиј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Т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већана фракцио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кскреција Na;</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остенурија;</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оген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сипидн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јабет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33520" y="533520"/>
            <a:ext cx="807696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Times New Roman"/>
                <a:ea typeface="Times New Roman"/>
              </a:rPr>
              <a:t>Б.3.</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Нефротски синдро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писује се најчешће после терапије нестероидни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нтиинфламатор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ековима: клинич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лика и хистолошки нала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дговарају тзв. Минимал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мен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533520" y="533520"/>
            <a:ext cx="8153280" cy="960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Дијагноз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крви (знаци запаљења: убрзана СЕ, леукоцитоза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озинофилиј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цит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хромна анемија; азотем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лектролитни</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идобазни поремећаји)</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урина (хематурија, леукоцитурија, тубулски поремећај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кључујући протеинурију; </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мањену TRP; повећану Fe </a:t>
            </a:r>
            <a:r>
              <a:rPr b="0" lang="sr-Latn-RS" sz="2400" spc="-1" strike="noStrike">
                <a:solidFill>
                  <a:srgbClr val="000000"/>
                </a:solidFill>
                <a:latin typeface="Times New Roman"/>
                <a:ea typeface="Times New Roman"/>
              </a:rPr>
              <a:t>Na</a:t>
            </a:r>
            <a:r>
              <a:rPr b="0" lang="sl-SI"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 хипостенурију)</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ефинитвна дијагноза се поставља биопсијом бубре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09480" y="685800"/>
            <a:ext cx="807732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Д</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Терапиј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поремећаја (дијализ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ње узрока (лечење инфекције или престана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ношења лек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низон у дози 2mg/kg/дан 4 недеље се даје понекад у циљу бржег</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гноза је код већине деце одлична са потпу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 за неколико недеља ил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есеци, али акутни ТИН било ко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тиологије може да прогредира у хронич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533520"/>
            <a:ext cx="7924680" cy="457200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ХРОНИЧНИ ТИ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Дефинише се патохистолошки као интерстицијумска фиброза и атрофија тубула, а клинички као хронична бубрежна инсуфицијенција (ХБИ).</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роцењује се да је хронични ТИН узрок терминалне бубрежне инсуфицијенције у око трећине болесника који се лече у центрима за дијализу.</a:t>
            </a:r>
            <a:endParaRPr b="0" lang="en-US" sz="2800" spc="-1" strike="noStrike">
              <a:solidFill>
                <a:srgbClr val="000000"/>
              </a:solidFill>
              <a:latin typeface="Arial"/>
            </a:endParaRPr>
          </a:p>
        </p:txBody>
      </p:sp>
      <p:sp>
        <p:nvSpPr>
          <p:cNvPr id="57" name="Rectangle 3"/>
          <p:cNvSpPr/>
          <p:nvPr/>
        </p:nvSpPr>
        <p:spPr>
          <a:xfrm>
            <a:off x="0" y="2790720"/>
            <a:ext cx="9144000" cy="488520"/>
          </a:xfrm>
          <a:prstGeom prst="rect">
            <a:avLst/>
          </a:prstGeom>
          <a:noFill/>
          <a:ln w="0">
            <a:noFill/>
          </a:ln>
        </p:spPr>
        <p:style>
          <a:lnRef idx="0"/>
          <a:fillRef idx="0"/>
          <a:effectRef idx="0"/>
          <a:fontRef idx="minor"/>
        </p:style>
        <p:txBody>
          <a:bodyPr lIns="90000" rIns="90000" tIns="4680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609480"/>
            <a:ext cx="80010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Етиологиј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леков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тешки мета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нфекциј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мунолошке боле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хередитарне и метаболичке болести (</a:t>
            </a:r>
            <a:r>
              <a:rPr b="0" lang="en-US" sz="2800" spc="-1" strike="noStrike">
                <a:solidFill>
                  <a:srgbClr val="000000"/>
                </a:solidFill>
                <a:latin typeface="Times New Roman"/>
                <a:ea typeface="Times New Roman"/>
              </a:rPr>
              <a:t>Alport</a:t>
            </a:r>
            <a:r>
              <a:rPr b="0" lang="sr-RS" sz="2800" spc="-1" strike="noStrike">
                <a:solidFill>
                  <a:srgbClr val="000000"/>
                </a:solidFill>
                <a:latin typeface="Times New Roman"/>
                <a:ea typeface="Times New Roman"/>
              </a:rPr>
              <a:t>-ов</a:t>
            </a:r>
            <a:r>
              <a:rPr b="0" lang="sl-SI"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синдр.</a:t>
            </a:r>
            <a:r>
              <a:rPr b="0" lang="sl-SI"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ц</a:t>
            </a:r>
            <a:r>
              <a:rPr b="0" lang="sl-SI" sz="2800" spc="-1" strike="noStrike">
                <a:solidFill>
                  <a:srgbClr val="000000"/>
                </a:solidFill>
                <a:latin typeface="Times New Roman"/>
                <a:ea typeface="Times New Roman"/>
              </a:rPr>
              <a:t>истино</a:t>
            </a:r>
            <a:r>
              <a:rPr b="0" lang="sr-CS" sz="2800" spc="-1" strike="noStrike">
                <a:solidFill>
                  <a:srgbClr val="000000"/>
                </a:solidFill>
                <a:latin typeface="Times New Roman"/>
                <a:ea typeface="Times New Roman"/>
              </a:rPr>
              <a:t>з</a:t>
            </a:r>
            <a:r>
              <a:rPr b="0" lang="sl-SI" sz="2800" spc="-1" strike="noStrike">
                <a:solidFill>
                  <a:srgbClr val="000000"/>
                </a:solidFill>
                <a:latin typeface="Times New Roman"/>
                <a:ea typeface="Times New Roman"/>
              </a:rPr>
              <a:t>а;Wilson</a:t>
            </a:r>
            <a:r>
              <a:rPr b="0" lang="sr-CS" sz="2800" spc="-1" strike="noStrike">
                <a:solidFill>
                  <a:srgbClr val="000000"/>
                </a:solidFill>
                <a:latin typeface="Times New Roman"/>
                <a:ea typeface="Times New Roman"/>
              </a:rPr>
              <a:t>-</a:t>
            </a:r>
            <a:r>
              <a:rPr b="0" lang="sl-SI" sz="2800" spc="-1" strike="noStrike">
                <a:solidFill>
                  <a:srgbClr val="000000"/>
                </a:solidFill>
                <a:latin typeface="Times New Roman"/>
                <a:ea typeface="Times New Roman"/>
              </a:rPr>
              <a:t>ова боле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уролошки поремећај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l-SI" sz="2800" spc="-1" strike="noStrike">
                <a:solidFill>
                  <a:srgbClr val="000000"/>
                </a:solidFill>
                <a:latin typeface="Times New Roman"/>
                <a:ea typeface="Times New Roman"/>
              </a:rPr>
              <a:t>диопатс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ајчешћи узроци хроничног ТИН-а код одојчади и деце су опструктивна уропатија и</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везикоуретерални рефлукс често удружен са инфекциј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609480" y="762120"/>
            <a:ext cx="8001000" cy="838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102666960"/>
              </a:tabLst>
            </a:pPr>
            <a:r>
              <a:rPr b="1" lang="en-US" sz="2800" spc="-1" strike="noStrike">
                <a:solidFill>
                  <a:srgbClr val="000000"/>
                </a:solidFill>
                <a:latin typeface="Times New Roman"/>
                <a:ea typeface="Times New Roman"/>
              </a:rPr>
              <a:t>Б</a:t>
            </a:r>
            <a:r>
              <a:rPr b="1" lang="sl-SI"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Клиничка слика</a:t>
            </a:r>
            <a:endParaRPr b="0" lang="en-US" sz="2800" spc="-1" strike="noStrike">
              <a:solidFill>
                <a:srgbClr val="000000"/>
              </a:solidFill>
              <a:latin typeface="Arial"/>
            </a:endParaRPr>
          </a:p>
          <a:p>
            <a:pPr algn="just">
              <a:lnSpc>
                <a:spcPct val="100000"/>
              </a:lnSpc>
              <a:tabLst>
                <a:tab algn="l" pos="0"/>
                <a:tab algn="l" pos="102666960"/>
              </a:tabLst>
            </a:pPr>
            <a:r>
              <a:rPr b="1" lang="sl-SI"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споро прогресивне инсуфицијенције бубрега (полиур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олидипс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иктурија, губитак тежине, замарање)</a:t>
            </a:r>
            <a:endParaRPr b="0" lang="en-US" sz="2800" spc="-1" strike="noStrike">
              <a:solidFill>
                <a:srgbClr val="000000"/>
              </a:solidFill>
              <a:latin typeface="Arial"/>
            </a:endParaRPr>
          </a:p>
          <a:p>
            <a:pPr>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одмакле ХБИ (бледило, наузеја, повраћање,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аостајање у расту,</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ахитичне промене,</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немија, хипертенз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са компликацијама-хипертензивна</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етинопатија и/или кардиопатиј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09480" y="533520"/>
            <a:ext cx="800100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                 Терапиј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ремећаја</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евенција и лечење остеодистрофије</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нје узрока (хирушка корекција аномалиј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Е инхибитори</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естрикција протеин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ронична дијали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250920" y="189000"/>
            <a:ext cx="8713800" cy="626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ТУБУЛОИНТЕРСТИЦИЈУМСКИ  НЕФРИТИС  (ТИ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Ово је хет</a:t>
            </a:r>
            <a:r>
              <a:rPr b="0" lang="sl-SI" sz="2100" spc="-1" strike="noStrike">
                <a:solidFill>
                  <a:srgbClr val="000000"/>
                </a:solidFill>
                <a:latin typeface="Times New Roman"/>
                <a:ea typeface="Times New Roman"/>
              </a:rPr>
              <a:t>е</a:t>
            </a:r>
            <a:r>
              <a:rPr b="0" lang="en-US" sz="2100" spc="-1" strike="noStrike">
                <a:solidFill>
                  <a:srgbClr val="000000"/>
                </a:solidFill>
                <a:latin typeface="Times New Roman"/>
                <a:ea typeface="Times New Roman"/>
              </a:rPr>
              <a:t>рогена група болести које примарно пога</a:t>
            </a:r>
            <a:r>
              <a:rPr b="0" lang="sl-SI" sz="2100" spc="-1" strike="noStrike">
                <a:solidFill>
                  <a:srgbClr val="000000"/>
                </a:solidFill>
                <a:latin typeface="Times New Roman"/>
                <a:ea typeface="Times New Roman"/>
              </a:rPr>
              <a:t>ђају тубуле и интерстицијум бубрега. ТИН се дефинише хистолошки присуством инфламације у интерстицијуму и лезијама тубул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Интерстицијум</a:t>
            </a:r>
            <a:r>
              <a:rPr b="0" lang="sl-SI" sz="2100" spc="-1" strike="noStrike">
                <a:solidFill>
                  <a:srgbClr val="000000"/>
                </a:solidFill>
                <a:latin typeface="Times New Roman"/>
                <a:ea typeface="Times New Roman"/>
              </a:rPr>
              <a:t> је екстраваскуларни међутубулски део бубрежног паренхима који се састоји из ћелијских елемената и </a:t>
            </a:r>
            <a:r>
              <a:rPr b="0" lang="en-US" sz="2100" spc="-1" strike="noStrike">
                <a:solidFill>
                  <a:srgbClr val="000000"/>
                </a:solidFill>
                <a:latin typeface="Times New Roman"/>
                <a:ea typeface="Times New Roman"/>
              </a:rPr>
              <a:t>екстраћелијског</a:t>
            </a:r>
            <a:r>
              <a:rPr b="0" lang="sl-SI" sz="2100" spc="-1" strike="noStrike">
                <a:solidFill>
                  <a:srgbClr val="000000"/>
                </a:solidFill>
                <a:latin typeface="Times New Roman"/>
                <a:ea typeface="Times New Roman"/>
              </a:rPr>
              <a:t> матрикса. Највећи волумен постиже у унутрашњој медули (30-40%). Постоје 3 главна типа интерстицијумских ћелиј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sl-SI" sz="2100" spc="-1" strike="noStrike">
                <a:solidFill>
                  <a:srgbClr val="000000"/>
                </a:solidFill>
                <a:latin typeface="Times New Roman"/>
                <a:ea typeface="Times New Roman"/>
              </a:rPr>
              <a:t>тип 1 - ћелија слична фибробласту: продукује екстраћелијски матрикс (ECM)</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2 - макрофаг-има способност фагоцитоз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3 - периваскуларне ћелије »перицит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Екстраћелијски</a:t>
            </a:r>
            <a:r>
              <a:rPr b="0" lang="sl-SI" sz="2100" spc="-1" strike="noStrike">
                <a:solidFill>
                  <a:srgbClr val="000000"/>
                </a:solidFill>
                <a:latin typeface="Times New Roman"/>
                <a:ea typeface="Times New Roman"/>
              </a:rPr>
              <a:t> матрикс се састоји из хидрираног гела који садржи високе концентрације гликозаминигликана и фибриле (колагени и гликопротеини).</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533520" y="762120"/>
            <a:ext cx="8229600" cy="579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Функције </a:t>
            </a:r>
            <a:r>
              <a:rPr b="0" lang="en-US" sz="2200" spc="-1" strike="noStrike">
                <a:solidFill>
                  <a:srgbClr val="000000"/>
                </a:solidFill>
                <a:latin typeface="Times New Roman"/>
                <a:ea typeface="Times New Roman"/>
              </a:rPr>
              <a:t>интерстицијума</a:t>
            </a:r>
            <a:r>
              <a:rPr b="0" lang="sl-SI"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отпора за мрежу тубула и бубрежних крвних судов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и регулација ECM</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змена воде и електролит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нтраренална дистрибуција ренина и ангиотен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хормона и паракриних медијаора: еритропоетина, адено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sl-SI" sz="2200" spc="-1" strike="noStrike">
                <a:solidFill>
                  <a:srgbClr val="000000"/>
                </a:solidFill>
                <a:latin typeface="Times New Roman"/>
                <a:ea typeface="Times New Roman"/>
              </a:rPr>
              <a:t>простагланд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Интеракције</a:t>
            </a:r>
            <a:r>
              <a:rPr b="0" lang="sl-SI" sz="2200" spc="-1" strike="noStrike">
                <a:solidFill>
                  <a:srgbClr val="000000"/>
                </a:solidFill>
                <a:latin typeface="Times New Roman"/>
                <a:ea typeface="Times New Roman"/>
              </a:rPr>
              <a:t> ћелија-матрикс и ћелија-ћелија остварују се посредством итегрина. Ћелије тубула су преко интегрина везане за ЕЦМ (Инегрини  су површински протеини тј. адхезиони рецептори који су експримовани на свим ћелијама код сисара). Могуће је да су прекиди ових нормалних интеракција, нађени у тубулопатијама и ТИН-у, резултат абнормалности у саставу, дистрибуцији и експресији интег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50920" y="260280"/>
            <a:ext cx="87138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АКУТНИ ТУБУЛОИНТЕРСТИЦИЈУМСКИ НЕФРИТИС (АТИН)</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кутни инфламаторни поремећај којим су захваћени тубул</a:t>
            </a:r>
            <a:r>
              <a:rPr b="0" lang="en-US" sz="2400" spc="-1" strike="noStrike">
                <a:solidFill>
                  <a:srgbClr val="000000"/>
                </a:solidFill>
                <a:latin typeface="Times New Roman"/>
                <a:ea typeface="Times New Roman"/>
              </a:rPr>
              <a:t>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и интерстицијум, али не и крвни судови и гломерули бубрег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Етиологиј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1.</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инфекцијом</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2.</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лековим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3.</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 имунолошким болест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4.</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диопат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380880" y="404640"/>
            <a:ext cx="8294760" cy="92674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A.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кутни ТИН удружен са инфекцијом</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Микроорганизми могу да изазову ово oбољење на 2</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начина:</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ректном инвазијом бубрежног паренхима – прототип овог oблика АТИН-а 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кутни бактеријск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ијелонефритис</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зазван Гра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гативном бактеријо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E.</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coli</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директно код системских инфекција, при чему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средује имунолошки систем, а ткиво бубрег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аје стерилно–стрептокок групе А (водећи узро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д деце); Epstein-Barr вирус; HIV; вирус Kawasaki</a:t>
            </a:r>
            <a:r>
              <a:rPr b="0" lang="sr-CS" sz="2400" spc="-1" strike="noStrike">
                <a:solidFill>
                  <a:srgbClr val="000000"/>
                </a:solidFill>
                <a:latin typeface="Times New Roman"/>
                <a:ea typeface="Times New Roman"/>
              </a:rPr>
              <a:t>-</a:t>
            </a:r>
            <a:r>
              <a:rPr b="0" lang="sl-SI" sz="2400" spc="-1" strike="noStrike">
                <a:solidFill>
                  <a:srgbClr val="000000"/>
                </a:solidFill>
                <a:latin typeface="Times New Roman"/>
                <a:ea typeface="Times New Roman"/>
              </a:rPr>
              <a:t>jе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цитомегаловиру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457200" y="333360"/>
            <a:ext cx="8305920" cy="68896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666960"/>
              </a:tabLst>
            </a:pPr>
            <a:r>
              <a:rPr b="1" i="1" lang="en-US" sz="20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A.2.</a:t>
            </a:r>
            <a:r>
              <a:rPr b="1" i="1" lang="en-U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лековим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лергијска реакција касне преосетљивости »тригерована« леком је највероватнији патогенетски механизам код ове болести. Имунске реакције посредоване ћелијама доводе до оштећења тубулских ћелија и инфламације у интерстицијуму-миграције</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 и </a:t>
            </a:r>
            <a:r>
              <a:rPr b="0" lang="sr-CS" sz="2400" spc="-1" strike="noStrike">
                <a:solidFill>
                  <a:srgbClr val="000000"/>
                </a:solidFill>
                <a:latin typeface="Times New Roman"/>
                <a:ea typeface="Times New Roman"/>
              </a:rPr>
              <a:t>В лимфоцита</a:t>
            </a:r>
            <a:r>
              <a:rPr b="0" lang="sl-SI" sz="2400" spc="-1" strike="noStrike">
                <a:solidFill>
                  <a:srgbClr val="000000"/>
                </a:solidFill>
                <a:latin typeface="Times New Roman"/>
                <a:ea typeface="Times New Roman"/>
              </a:rPr>
              <a:t>, макрофага, еозинофила и плазма ћелија.  Лекови који могу да изазову ове реакције се деле у више група:</a:t>
            </a:r>
            <a:endParaRPr b="0" lang="en-US" sz="2400" spc="-1" strike="noStrike">
              <a:solidFill>
                <a:srgbClr val="000000"/>
              </a:solidFill>
              <a:latin typeface="Arial"/>
            </a:endParaRPr>
          </a:p>
          <a:p>
            <a:pPr algn="just">
              <a:lnSpc>
                <a:spcPct val="100000"/>
              </a:lnSpc>
              <a:tabLst>
                <a:tab algn="l" pos="0"/>
                <a:tab algn="l" pos="102666960"/>
              </a:tabLst>
            </a:pPr>
            <a:endParaRPr b="0" lang="en-US" sz="12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Бета-лактамски антибиотици (пеницилини и цефалоспорин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Нестероидни антиинфламаторни лекови и аналг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Диур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Антиконвулзи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533520" y="762120"/>
            <a:ext cx="8153280" cy="59756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666960"/>
              </a:tabLst>
            </a:pPr>
            <a:r>
              <a:rPr b="1" i="1" lang="sl-SI" sz="2400" spc="-1" strike="noStrike">
                <a:solidFill>
                  <a:srgbClr val="000000"/>
                </a:solidFill>
                <a:latin typeface="Times New Roman"/>
                <a:ea typeface="Times New Roman"/>
              </a:rPr>
              <a:t>A.3</a:t>
            </a:r>
            <a:r>
              <a:rPr b="1" i="1" lang="en-US" sz="2400" spc="-1" strike="noStrike">
                <a:solidFill>
                  <a:srgbClr val="000000"/>
                </a:solidFill>
                <a:latin typeface="Times New Roman"/>
                <a:ea typeface="Times New Roman"/>
              </a:rPr>
              <a:t>.</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имунолошким</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болестим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ТИН удружен са гломерулонефритисом (лупус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итисом, АПГН; IgA-нефропатијом)</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мунолошке болести које се презентују изолова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о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бацивањ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рансплантата; хронични активни хепатитис; ТИН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веити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838080"/>
            <a:ext cx="8640720" cy="37512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Б</a:t>
            </a:r>
            <a:r>
              <a:rPr b="1" lang="sl-SI" sz="3600" spc="-1" strike="noStrike">
                <a:solidFill>
                  <a:srgbClr val="000000"/>
                </a:solidFill>
                <a:latin typeface="Times New Roman"/>
                <a:ea typeface="Times New Roman"/>
              </a:rPr>
              <a:t>.          Клиничка слика</a:t>
            </a:r>
            <a:endParaRPr b="0" lang="en-US" sz="3600" spc="-1" strike="noStrike">
              <a:solidFill>
                <a:srgbClr val="000000"/>
              </a:solidFill>
              <a:latin typeface="Arial"/>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1.</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кутна бубрежна инсуфицијенц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BI)</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B.2.</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Дисфункција тубула</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3.</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ефротски синдр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57200" y="609480"/>
            <a:ext cx="8229600" cy="114620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781080"/>
              </a:tabLst>
            </a:pPr>
            <a:r>
              <a:rPr b="1" i="1" lang="sl-SI" sz="2400" spc="-1" strike="noStrike">
                <a:solidFill>
                  <a:srgbClr val="000000"/>
                </a:solidFill>
                <a:latin typeface="Times New Roman"/>
                <a:ea typeface="Times New Roman"/>
              </a:rPr>
              <a:t>Б.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БИ</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Претпостављени механизми њеног настанка су:</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рукција тубула услед компресије од стран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дематозног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терстицијума</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убулогломерулски феедбацк</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раћање ултрафилтрата кроз ТБМ</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ва</a:t>
            </a:r>
            <a:r>
              <a:rPr b="0" lang="sl-SI" sz="2400" spc="-1" strike="noStrike">
                <a:solidFill>
                  <a:srgbClr val="000000"/>
                </a:solidFill>
                <a:latin typeface="Times New Roman"/>
                <a:ea typeface="Times New Roman"/>
              </a:rPr>
              <a:t>зоконстрикција у бубрегу (ослобађањ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азоконстриктор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ептида)</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специфични симптоми који су удружени са АБ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алаксалост,</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норексија, губитак у</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ежини и повраћ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5:14:40Z</dcterms:created>
  <dc:creator>Impuls</dc:creator>
  <dc:description/>
  <dc:language>en-US</dc:language>
  <cp:lastModifiedBy>User</cp:lastModifiedBy>
  <dcterms:modified xsi:type="dcterms:W3CDTF">2014-08-12T13:00:01Z</dcterms:modified>
  <cp:revision>21</cp:revision>
  <dc:subject/>
  <dc:title>PowerPoint Presentation</dc:title>
</cp:coreProperties>
</file>