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D578-3B44-48DA-8474-5193E7449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E9EB-2A31-4C79-BF7F-DD65D118D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A29E-D492-4873-9470-D8A830C55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FBC8-59E7-4841-BDF9-E73E4D8EC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5446-0AD3-4E8A-9CB8-162BE0168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AF58-6CE5-4BB3-B8EF-F566AEE84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897B-0EAA-4D39-8771-0EAE06976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F6BC-0A0F-4911-BA3F-9B8302616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0530-2B1D-4E0E-9E9F-45BB1AA50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9CFB-A0B4-4AFE-A317-0100624F7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894D-2324-4176-9AD4-41310D29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C41A-902C-4ED9-96F0-3CC55518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6E64E-8F07-4120-8A31-C9AA66C9E4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7590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Везикоуретерални рефлукс </a:t>
            </a:r>
            <a:br>
              <a:rPr sz="3600"/>
            </a:b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и </a:t>
            </a:r>
            <a:br>
              <a:rPr sz="3600"/>
            </a:b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рефлуксна нефропат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041800"/>
            <a:ext cx="6400800" cy="92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оф. др Ана Вуј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3657600" y="189000"/>
            <a:ext cx="16956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vur-3"/>
          <p:cNvPicPr/>
          <p:nvPr/>
        </p:nvPicPr>
        <p:blipFill>
          <a:blip r:embed="rId1"/>
          <a:stretch/>
        </p:blipFill>
        <p:spPr>
          <a:xfrm>
            <a:off x="601560" y="620640"/>
            <a:ext cx="2479680" cy="3095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vur-4"/>
          <p:cNvPicPr/>
          <p:nvPr/>
        </p:nvPicPr>
        <p:blipFill>
          <a:blip r:embed="rId2"/>
          <a:stretch/>
        </p:blipFill>
        <p:spPr>
          <a:xfrm>
            <a:off x="3290760" y="620640"/>
            <a:ext cx="2479680" cy="3095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vur-5"/>
          <p:cNvPicPr/>
          <p:nvPr/>
        </p:nvPicPr>
        <p:blipFill>
          <a:blip r:embed="rId3"/>
          <a:stretch/>
        </p:blipFill>
        <p:spPr>
          <a:xfrm>
            <a:off x="6012000" y="620640"/>
            <a:ext cx="2455560" cy="30654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468360" y="4437000"/>
            <a:ext cx="81360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Garamond"/>
              </a:rPr>
              <a:t>III степeн</a:t>
            </a:r>
            <a:r>
              <a:rPr b="1" lang="en-GB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Garamond"/>
              </a:rPr>
              <a:t>                 </a:t>
            </a:r>
            <a:r>
              <a:rPr b="1" lang="sr-Latn-C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Garamond"/>
              </a:rPr>
              <a:t> IV степeн</a:t>
            </a:r>
            <a:r>
              <a:rPr b="1" lang="en-GB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Garamond"/>
              </a:rPr>
              <a:t>        V степe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Блага дилатација        Умерена дилатација уретера,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Ди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латaциј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уретера и карлице              зарављене чашиц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Garamond"/>
              </a:rPr>
              <a:t>http://www.pedisurg.com/PtEduc/Vesicoureteral_Reflux.h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Клиничка сл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ВУР је асимптоматска аномалија, а клинички се открива у око 85% случајева преко уринарне инфекције, ређе у одмаклом стадијуму преко компликација као што су хипертензија и хронична бубрежна инсуфицијенциј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ВУР, поготову ако је I, II и III степена има тенденцију да се изгуби и ово се дешава у више од 50% случајева, нарочито у млађем узрасту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Склоност ка ожиљавању је, међутим, највећа у првим годинама живота, тј. код одојчет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Доказано је да се  ожиљавање дешава само у првих 5-7 годин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685440" y="83808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Болесници са благим степеном ожиљавања, поготову ако немају протеинурију (или не већу од 500 mg/24h), са  нормалним с. креатинином, обично у каснијем животу немају компликација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Известан број болесника са вишим степеном ожиљавања, односно редукције бубрежног паренхима, има болест прогредијентног тока за коју је прихваћен назив </a:t>
            </a:r>
            <a:r>
              <a:rPr b="0" lang="sr-CS" sz="3000" spc="-1" strike="noStrike" u="sng">
                <a:solidFill>
                  <a:srgbClr val="000000"/>
                </a:solidFill>
                <a:uFillTx/>
                <a:latin typeface="Arial"/>
              </a:rPr>
              <a:t>рефлуксна нефропатиј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Рефлуксна нефропатиј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РН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) је хронична прогредијентна болест коју карактерише ожиљавање бубрега, а настаје као последица ВУР-а и удружених факт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жиљавање бубрега и редукција бубрежног паренхима се дијагностикује помоћу IVP или/и DMSA сцинтиграфиј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омене на IVP-у које су карактеристичне за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РН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 још 1960. год. описао J. Hodsо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не се састоје од: деформација чашица, различитог степена ожиљавања паренхима (обично изнад деформисаних чашица) и смањења величине бубре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анас је прихваћено да се степен ожиљавања бубрега дефинише по класификацији J. Smell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Механизам настанка ожиљавањ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, односно редукције бубрежног паренхима у присуству ВУР-а данас се тумачи на неколико начин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стојање интрареналног рефлукс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ринарна инфекциј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постојање конгениталне дисплазије бубрег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евентуално повишен ретроградни притисак- “чекић” (ово последње важи само за болеснике са опструкцијом и неурогеном дисфункцијом мокраћне бешик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РИРОДАН ТОК БОЛЕСТИ </a:t>
            </a: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Р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 u="sng">
                <a:solidFill>
                  <a:srgbClr val="000000"/>
                </a:solidFill>
                <a:uFillTx/>
                <a:latin typeface="Arial"/>
              </a:rPr>
              <a:t>3 фазе: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1.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очиње  у  одојчета и малог детета. Долази до  иреверзибилног  оштећења паренхима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Може бити асимптоматска. Хипертензија и протеинурија нису запажен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3. Најчешће  се болесници јављају са израженом хипертензијом  или  бубрежном исуфицијенцијо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Лечењ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ВУР I и II степена, и највећи број III   степена треба лечити  конзервативно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ВУР   В  степена- хирушки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Код ВУР-а  III  и IV  до сада  завршене студије не показују   значајне разлике у начину лечења. У  последње време  користи се «стинг»  процедура, тј убризгавање тефлона у везикоуретерелно ушће, чиме се спречава рефликсирање урин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Превенц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Благовремено лечење уро-инфекција у одојчади и мале деце, при првој инфекциј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ри повишеној температури која нема видљиви узрок (пре давања антибиотика) прегледати УРИН и УРИНОКУЛТУР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осле лечења доказане инфекције  урадити потребна испитивањ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Код  деце из породица  са ризиком саветује се Ехо бубрег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ВУ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3059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УР је термин који означава ретроградно враћање урина из мокраћне бешике у уретер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Епидемиолог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честалост ВУР-а у дечијој популацији није сасвим прецизно установљен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честалост појаве уринарних инфекција у деце до 11 година  је 3% за девојчице, а 1% за дечаке.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У 30-50% ових болесника  се налази ВУР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440" y="609480"/>
            <a:ext cx="80773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реваленца ВУР-а у општој популацији деце се процењује на 0,4 до 1,8%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Базирано на епидемиолошким студијама, при истраживању ИУТ у око 2,2% девојчица и 0,6% дечака нађе се ВУР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реваленца ВУР-а у деце са ИУТ износи око 31%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Класификац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8148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УР може бити примаран и секундар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Примарни ВУР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настаје најчешће због урођене аномалије везикоуретералног споја, која га чини функционално инсуфицијентни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УР има тенденцију да се са узрастом детета губи, јер за то време интравезикални део уретера повећава своју дужин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3059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Секундарни ВУР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се јавља често удружен са ектопичним уретерима или дупликацијама уретера. Такође се јавља када постоји анатомска или функционална опструкција уринарног тока дивертикулом, уретероцелом и валвулом задње урет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себно треба указати на појаву ВУР-а у болесника са неурогеном дисфункцијом мокраћне бешик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У зависности од тога у којој мери приликом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MUCG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контраст испуњава уретер и пелвикаликсни систем, као и од величине дилатације овог система ВУР се конвенционално градира у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степен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У последње време је највише прихваћена класификација Комитета интернационалне студије ВУР-а на пет степен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ВЕЗИКОУРЕТЕРАЛНИ РЕЛУК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vur-nl"/>
          <p:cNvPicPr/>
          <p:nvPr/>
        </p:nvPicPr>
        <p:blipFill>
          <a:blip r:embed="rId1"/>
          <a:stretch/>
        </p:blipFill>
        <p:spPr>
          <a:xfrm>
            <a:off x="611280" y="1413000"/>
            <a:ext cx="2367000" cy="2952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vur-1"/>
          <p:cNvPicPr/>
          <p:nvPr/>
        </p:nvPicPr>
        <p:blipFill>
          <a:blip r:embed="rId2"/>
          <a:stretch/>
        </p:blipFill>
        <p:spPr>
          <a:xfrm>
            <a:off x="3348000" y="1413000"/>
            <a:ext cx="2363760" cy="2950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vur-2"/>
          <p:cNvPicPr/>
          <p:nvPr/>
        </p:nvPicPr>
        <p:blipFill>
          <a:blip r:embed="rId3"/>
          <a:stretch/>
        </p:blipFill>
        <p:spPr>
          <a:xfrm>
            <a:off x="6184800" y="1413000"/>
            <a:ext cx="2422800" cy="3024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"/>
          <p:cNvSpPr/>
          <p:nvPr/>
        </p:nvSpPr>
        <p:spPr>
          <a:xfrm>
            <a:off x="324000" y="4941720"/>
            <a:ext cx="828036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1" lang="sr-C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Garamond"/>
              </a:rPr>
              <a:t>Нормалан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Garamond"/>
              </a:rPr>
              <a:t>бубрег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Garamond"/>
              </a:rPr>
              <a:t>I степeн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Garamond"/>
              </a:rPr>
              <a:t>II степe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Garamond"/>
              </a:rPr>
              <a:t>уретер и мокраћна беш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Garamond"/>
              </a:rPr>
              <a:t>http://www.pedisurg.com/PtEduc/Vesicoureteral_Reflux.h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3T00:17:13Z</dcterms:created>
  <dc:creator>Katja</dc:creator>
  <dc:description/>
  <dc:language>en-US</dc:language>
  <cp:lastModifiedBy>User</cp:lastModifiedBy>
  <dcterms:modified xsi:type="dcterms:W3CDTF">2014-08-12T13:41:19Z</dcterms:modified>
  <cp:revision>43</cp:revision>
  <dc:subject/>
  <dc:title>No Slide Title</dc:title>
</cp:coreProperties>
</file>