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C7B-0BE4-44BA-A9AA-59AA7485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796-DAE0-44E2-B179-9242D5FE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502-3F40-4DD9-BB68-5272BA8B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EB8-ECEA-4BB7-AC09-93950137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150-6A5E-4AEE-ACC0-00E1F1AE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272-A035-403E-9F16-06FCC33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F26-2896-4E3A-B42B-2F5E5C90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394-4536-4ABE-BA7B-345B8EFD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03A-D50A-4D7E-BBEB-A7BF3A3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C93-2C03-46C9-84A0-34F5C6A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C9F-311F-4377-885A-0805391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126-49E2-44F9-92AF-55D82DA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DFC2-BC35-4744-9BFD-0706F2641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724200" y="33336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мптоми и знаци поремећаја регулаторне и екскреторне функције бубрег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) поремећај волумена воде и електролитног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) поремећаји ацидо-базн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) ретенце азотних и других метабол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4) поремећаји у регулацији крвног притиска и стварања еритроц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мијски токсини су са хормонским поремећајем, електролитним дисбалансом и ацидозом одговорни за метаболичке поремећаје и поремећаје у раду многих орг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оремећај метаболизма масти (повишени TG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DL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LDL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УХ (интолеранција угљенихидрата, хиперинсулини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ижена способност концентрисањ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 метаболиз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a, P и ренална остеодистрофија (коштани деформитети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д пада ГФ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 ml/min/ 1,73 m²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ољав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стој у расту (ендокринолошки поремећај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наци протеинске малнутриције (губитак мишићне мас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спорен и неправилан психомоторн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иферна неуропатија са оштећењем сензорних и моторних функција и повећана неуромускуларна раздражљивост  праћена грчевима и конвулзиј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жа сува, сиво-жуте боје, појачан свра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еми, тахипноа, диспнеја (хиперволемија, ацидоза, 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јавља се нормоцитна, нормохромна анемија због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) смањеног стварања еритропоетина услед губитка функционалног паренх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) успорене еритропоезе услед неосетљивости еритроидне лозе на еритропоетин у присуству уремијских токс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) хемолизе изазване уремијским токсин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) крварења због смањенја броја тромбоцита и оштећења фун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 јављ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(80-90%) са знацима циркулаторне конгестије, едемом плућа, кардиомегалијом и галопним рит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инопат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аћање, дијареја,  мел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ЂЕЊЕ И ЛЕЧЕЊЕ БОЛЕСНИКА СА Х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2243160"/>
                <a:gridCol w="2879640"/>
                <a:gridCol w="3106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 фун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r&gt; 50ml/min/1,73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говарајући дијететски режим (»нормалан живот«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50-2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ње остеодистрофиј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а ацидобазног и електролитног балан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ем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20-10/min/1,73m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јето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нзивно конзерватиивно лечење (хипекалемија, хипертензија, ацидоз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&lt; 1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ити приступ крвним судовима за хемодијализ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лантација или хемодијали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О-ДИЈЕТЕТСКИ  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 нормалан раст 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теди преостале нефроне од брзог пропад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прогресије ХБИ унос протеина за децу до 12 година је 100%, а за старију 80% потреба здравог дет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м стадијуму, ако се лече хемодијализама унос протеина се повећава за 10-20%, а ако се лече перитонеумском дијализом за 30-50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5-20% укупне дневне количине може бити у виду есенцијалних аминокиселина или њихових кетоанало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гулисан је осећајем жеђи болесника до терминалног стадију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терминалне БИ, када болесник улази у олигуричну фазу,  ограничава се на 300-500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l/m²/24h 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спирација)  + губитак урином и столиц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ос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не ограничава до терминалног стадијума изузев ако болесник има хипертензи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1-2mmol/kg/24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КАЛ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путити болесника да избегава храну богату калијум (суво воће, поморанџе, парадајз, ораси, чоколада, кока-кола) када клиренс креатинина падне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0ml/min/1,73m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оле јонски-измењивачи ( у ГИТ-у измењу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лучајевима тешке хиперкалемије лeчeњe јe као у АБ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 И ЛЕЧЕЊЕ РЕНАЛНЕ ОСТЕОДИСТРОФИЈ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венција РОД започиње када ј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r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  <a:ea typeface="Tahoma"/>
              </a:rPr>
              <a:t>&lt;60мл/ми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ит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(4-8000IJ/24h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(0,12-0,50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CO3 (300-500 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триктна контрола уноса фосфора храном (контрoла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, P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PTH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ума 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-2x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годишње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Rtg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Терапиј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ећe доз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i CaCO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201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(ХБИ) је стање које настаје због прогресивног, иреверзибилног оштећења бубрега, одражава се поремећајем у раду низа органа, а сами бубрези нису у могућности да одрже запремину и састав течности у нор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ЦИ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рекција се врши према гасним анализама само до нивоа бикарбобата у серуму од 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8mmol/l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да се не би погоршала хипертенз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3 mmol/kg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карбон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е испољи манифестна хипокалцемична тетанија у комбинацији са ацидозом потребно је претходно кориговати хипокалце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чити сидеропенију препаратима гвожђ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умани рекомбинантни еритропое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-75 J/ kg TT    1-3x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дељн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sc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дијализираних болесника се дају препарати  фолне киселин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5mg/kg TT/24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ХИПЕРТЕНЗИЈЕ И СРЧАНЕ ИНСУФИЦИЈ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као последица хиперволемије се лечи диуретицима и ултрафилтрацијом у току дијали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хиперволемијским стањима за брзу контролу су корисни калцијум-блокатори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иперренинска хипертензија се леч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E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им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при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 бета-блокатор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ко рефрактарна, малигна хипертензија у уремичне деце захтева нефректо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у потребни кардиотоници дозу треба редуковати према резидуалној функцији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ергично лечи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кове који се излучују исклучиво путем бубрега потребно је давати у дозама које се смањују паралелно са смањењем функције бубрега (цефалоспорин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фротоксичне лекове треба избегавати или давати у одговарајуће умањеним дозама (аминогликозид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ХБИ 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е дефинисати и као сва клиничка стања  код којих су концентрације креатинина у серуму повећане изнад 2 SD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односу на нормалне вредности за пол и узра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центрација плазма-креатинина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arratt i Chantler 197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6308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277668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ња вредност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µ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он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± 2 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 пупч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26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5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тао мушкар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-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ла ж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ективне (хронични пијелонефритис) или iнфламаторне болести (GN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2) аномалије бубрега и уротракта (опструктивне уропатије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3) наследни бубрежни поремећаји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4) болести везивног ткива (SLE, HUS, HSP)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5) метаболички поремећаји (шећерна болест, амилоидоза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6) токсичне нефропатије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7) хипертензивне васкуларне болeсти (нeфросклeроз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 гломерулских обољења (25,8%) најчешћи узрок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стероид резистентни нефротски синдром са фокалном гломерулском склероз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мембрано пролиферативни гломерулонефрити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IgA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нефропатиј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3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ронични пијелонефритис (24,6%) у деце представља учесталост примарног и секундарног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UR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чешћа хередитарна обољења (15,6%)  која доводе до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јувенилна нефронофти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цистин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цистичне болести бубре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port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 нефрити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 ХБИ у болесника лечених хемодијализама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80- 1990. год.  на УДК у Беог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УКСНА НЕФРОПАТ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Е БОЛ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УВЕНИЛНА НЕФРОНОФТ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ВАЊЕ ГЉИВ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ПЛАЗИЈА/ДИСПЛА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ORT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 W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СТ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ЗНАТЕ ЕТИОЛОГ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генитална обољења бубрега и уринарног тракта раније изазивају ХБИ, већ у првим годинама живота, док хередитарне и стечене болести бубрега  касније доводе до ХБИ, обично између 5 и 15 год. 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во стање пролази кроз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 фаза: повећана бубрежна функционална резерва; ГФ(гломеруларна филтрација) снижена на 30-50ml/min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 фаза: смањенa екскреторнa функцијa бубрeгa сa raзвојeм aзотeмијe;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e 15-30ml/min 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I фаза: полисистемски функционални поремећаји, ГФ је око 10ml/min /1,73 m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V фаза: терминални стадијум, ГФ испод 10ml/min /1,7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m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14:30Z</dcterms:created>
  <dc:creator>vvinfo</dc:creator>
  <dc:description/>
  <dc:language>en-US</dc:language>
  <cp:lastModifiedBy>User</cp:lastModifiedBy>
  <dcterms:modified xsi:type="dcterms:W3CDTF">2014-08-12T13:19:12Z</dcterms:modified>
  <cp:revision>64</cp:revision>
  <dc:subject/>
  <dc:title>Slide 1</dc:title>
</cp:coreProperties>
</file>