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DBE-307D-426F-BAFA-6C9E643A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396-009C-439B-A367-FF8DE8E1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6B1-11E8-4B05-8155-D4D79B5B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8A2-80DD-4610-B113-0829991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DBB-0403-48CB-9017-3D62F7E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3A5-88E7-481F-8BFC-273434C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01B-131D-4A8A-B28C-685D71B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73D-273D-4BE3-908A-ED978B3D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4EA-6000-44EF-BBB7-44E37BB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F0F-29E9-4467-88CD-23C2B4D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512-A553-4448-9DB3-F3C74990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FF5-29C8-458D-853B-C2ACE4A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0C83-24D5-4D6A-B31F-B80D79095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а опоравка – полиур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еколико да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апетит се поправља, али болесник “мршави” због појачане диуре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нагли пораст осмотски изазване диурезе јавља се као последица бржег опоравка гломерулске од тубулских функц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бољшање општег стања праћено је нормализацијом биохемијских парамета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K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И А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ЕА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НИН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у УРИН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за 3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Допам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г Фуросем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ml/kg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глукона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е с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6,5mmol/l : 0,5g/kg смоле за размену катјон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орално у 100ml 10% глукоз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mol/kg : 0,5ml/kg Ca-глукон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еа &gt; 4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m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h или мања од 10 ml/h код малог детета или мања од 0,5-1ml/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ГФ (реверзибилно, без ст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ф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ПГН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ХУС, ДИК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ЈГФ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конгениталне (V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стеч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m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a одржавaњ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eколико сати до једнe nедeљ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знаци прогrесивне азотемије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бледило, малaксалост, отoци л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ца, aцидотично дисање, губитак aпети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а, повраћaње, штуцање, грче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јавa компликација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дeм плућа, енцeфалопатија, дигестивна крва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ња, инфекциј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oларности урина Uosm = 1000mosm/k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дне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и пораст aз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eм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јe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eлeк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литн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4-08-12T13:14:09Z</dcterms:modified>
  <cp:revision>25</cp:revision>
  <dc:subject/>
  <dc:title>Akutna bubrežna insuficijencija</dc:title>
</cp:coreProperties>
</file>