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3C5-1055-4F54-B423-376F89D4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2B7-FA58-4449-B738-03FCB0C6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05E-BCB8-4464-B47A-6B65D4B7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A09-FE5D-41E6-8849-1FDF4996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F2D9-8566-4DE6-8856-30901628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D812-E860-4782-9A42-40127AC2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62AE-7CF4-49CB-B0A0-F907B276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3A8F-F1E5-4FA9-9653-CF2990E0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5B1F-98DC-4730-A150-4ECE8718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A0AB-7D49-430F-B4F3-B7D704C8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2A23-A08A-4744-BDE0-26D85D85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491-D8DD-409D-9665-ACFE9C81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BA34-AD91-4832-B24D-1FF3CBC8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7E2A-781F-443F-9D68-C3EBF60F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6E1F-FB7F-4271-9483-876FCA73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1889-8D7E-4BAC-928C-5F31E360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83A3-B207-41B4-9666-E4823E7A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BFF-E237-4B2A-A259-DDEFCC06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3D7-CBD5-4088-B623-A33F57DB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AAB-D41B-4C72-8D08-CE554E53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B7C-20B3-4ED1-BC02-DE0CBD36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FAA-E851-4C18-B6B7-3906C04C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989-E70B-47C0-9CC1-D4EF158C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5EC-9C95-44A5-B428-6AD01C8A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887D-A5A5-461C-87B5-86D4E3F9E3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0E11-AAD1-41F4-8496-38DDE04DB5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ФЕКЦИЈЕ УРИНАРНОГ ТРАКТА У ДЕЦ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27280" y="5181120"/>
            <a:ext cx="564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УТ се налази код око 5 % деце узраста до 2 годи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2,7-4,1%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са фебрилношћу непознате етиолог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мперату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gt;39°C),а 2-3 пута чешће код женске дец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око 17% девојчица беле рас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пацијентима м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им од 2 године са АП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8-10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ма бактеријем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изик од појаве симптоматске ИУТ до 11. године живота постоји код 3%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евојчица са “пиком” у 4. год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 код 1,1%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ечака са највећом инциденцом у 1. години жив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мулативни ризик од појаве ИУТ , према подацима из Шведке, износи 2,2% код дечака и 2,1% код девојчица узраста до 2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ични резултати добијени су у Енглеској где је симптоматска ИУТ евидентирана код 2,8% дечака и 8,3% девојчица узраста до 7 год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ј. код 3,6% и 11,3% испитаника до 16 година стар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ко 60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%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деце са фебрилном ИУТ има АПН дефинисан присуством абнормалности у реналном кортексу на D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ETIOLOGIJA I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већини случајева ове инфекције изазива сопствена цревна флора пацијент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Најчешћи узрочник из ове групе је E.col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ja se izoluje u случајu прве нeкомplиkovane ИУТ koд 75% novoroђenčadi i 80 - 90% deцe prepuбerтetskoг uзrast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осталим грам-негативним цревним бактеријам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bsi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се среће у новорођеначком узрасту (11%), а Proteus код млађих дечака (30%). Proteus и псеудомонас су чешћи у нозокомијалним инфекцијама и код пацијената са течким аномалијама доњег дела уринарног тракта;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ђу грам-позитивним бактеријама најчешћи су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treptococcus grupe D (ентерокок) i Staphylococcu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агулаза негативне стафилококе (S. epidermidis и S. saprophiticus) су једно време биле појам за контаминацију са коже. Са широм употребом супрапубичне аспирације урина постало је јасно да ови организми могу бити патогени за уринарни трaк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.epidermidis и S.saprophiticus узрок су ИУТ код 30% девојчица у пубертет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во се, као и пораст инциденце ИУТ у касном пубертету повезује са сексуалном активношћ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ЦИЈ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 појмом инфекције уринарног тракта (ИУТ) подразумевају се сва стања која карактерише присуств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сигнифакнтног броја бактерија у урин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и то без обзира на локализацију инфекције у уринарном тракту ( од асимптоматске бактериурије до акутног пијелонефритиса (АП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ај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 пут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јим сопствена цревна флора пацијента продире у уринарни тракт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је асцедентан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ј. кроз уретру из претходно колонизоване периуретралне регије код дево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ца и субпрепуцијалног џепа код 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од 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е новор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ди инциденца ИУТ 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е смањити циркумцизијом. Ризик од ИУТ за нециркумцизирану 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у новор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д у првој годин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вота је 4,1% и м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е смањити на 0.2% применом неонаталне циркумцизије (Gonzales, 1996.). М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тим питање рутинске неонаталне циркумцизије остаје контроверзно (Poland, 1990; Schoen, 1990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Бактерије доспевају до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захваљ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способности адхеренције за уроепител, као и по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танког слоја 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сти на по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 слузо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. Максималан раст бактерије п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на температури урина 37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, када је pH 6-7 и осмолалност 300-1200 mOsm/k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ласку бактерија се супротстављају турбулентни ток урина, природни испир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акт мокрења и 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бактеријски одбрамбени механизми урина,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и бубрег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Хематогени пу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је знатно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р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ђ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 пу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уласка бактерија у уринарни тракт. ИУТ у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м периоду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настати овим пут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Грам-негативна септикемија са E.coli развија се у време колонизације црева овим микроорганизмом због незрелости цревног зида и неадекватних имунол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их одбрамбених механизама. Имуноглобулини ма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ног млека имају 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титну улогу па је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бактеријемија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 код деце која нису на природној исхра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ТОГЕНЕЗ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д мањег броја дец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У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→ резултат структуралних абнормалности-CAC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% ВУР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5%опструктивне уропат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д већине дец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У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→ резултат интерреакције изм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фактора вируленције бактерија и одбрамбених механизама домаћи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↔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нфламаторна реак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атогенеза ИУТ није потпуно раз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на, али је на основу бројних кли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х и микроб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х ист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вања за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о д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до појаве болести долази када се поремети равно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 изм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ђ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 фактора вируленције бактерија и одбрамбених механизама дом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Генерално, уропатогене микробне културе обухватају клонове E. coli који се јављају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у уринарном тракту пацијената са ИУТ. Поред способности доброг раста и брзог ум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вања у урину, ове бактерије поседују по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ске факторе који предиспонирају ИУТ (Roberts, 1996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Сви фактори вируленције су продукт бактеријског геном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тако да захваљ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стим мутацијама гена ове бактерије могу мењати фенотипску експресију протеинских и непротеинских антиген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их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 ј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вирулентнији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рој бактерија који се сматра сигнификантним зависи од методе прикупљања урина и он према Кассу износ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10</a:t>
            </a:r>
            <a:r>
              <a:rPr b="0" lang="sr-Latn-CS" sz="28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или више бактерија у 1ml урина, који је добијен из средњег млаза у току мик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ли више бактерија у 1ml урина узетог катетеризацијом или било који број добијен културом урина узетог супрапубичном пункцијом мокраћне беши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О антиген - антиген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лијског зида - састављен из липидне и полисахаридне компоненте. Липид А се ослоб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 при лизи бактерије и делу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 као ендотоксин смањује уретералну перисталтику.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н је активатор инфламаторне реакције дом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а и активатор комплемента класи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ним путем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Полисахаридна компонента 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је индивидуални О-серотип. Серотипови који су на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одговорни за ИУТ су: 0, 1, 2, 4, 6, 7, 18, 25, 50 и 7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К антиген - капсуларни антиген - је полисахарид који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инхибирају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и фагоцитоз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ола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ава п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ивљавање бактерија у уринарном тракту, као и њихово продирање у бубрег,  тј настанак акутног пијелонефритиса. К антигени так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ометају бактерицидно дејство серума посредовано комплементом,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т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омог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ава перзистирање бактерија у ткив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 антиген - флагеларни антиген - поседују неки сојеви E.coli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то их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ини покретн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Фимбрије или пили су продукт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лијског зида који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могу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ва адхеренцију бактерија на повр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у слузоко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 -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то је најзн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јнији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илац у настанку бактериур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 Посредством адхезина-протеинских  структура на врху пила, E.coli се специф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о везује за гликолипидне или гликопротеинске рецепторе уроепите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Главна улог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 патогенези 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љава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паренхима бубрега изазивањем респираторног праска приписује се организмима који имају тип I фимбрија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E.coli, носилац маноза-сензитивних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фимбриј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ријања за Tamm Horsfall-ов протеин - слузави слој на уротелу кој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ити уринарни тракт од микроорганиза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собе са крвном групом P имају на епителни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лијама мок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е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и уретера рецeпторе за P фимбрије (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ј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L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цептор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то омогу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в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адхеренцију бактерија и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астанак акутног пијелонефритиса у нормaлном уринaрном трaкт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во везивање доводи, у даљем току ИУТ, до интеракције са фагоцитима - изазив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респираторни прасак тј. дегранулацију полиморфнонуклеарних леукоцита (pmn) са осл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њем ензима и ток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х радикала кисеоника у околно ткиво. Ова интеракција се одигравa посредством цитоки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ll-like рецептори“ (TLR) препознају PAMP→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емокини (IL-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инфламаторни цитокин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L-1, IL-6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билизација имуних ћелија и деструкција патогених организа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основи мог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икроорганизама да се испоље као патогени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бити модификована до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овим одбрамбеним механизмима. Ове механизме грубо делимо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анатомс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функционалне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имун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анатомски нормалном уринарном тракту, уз регуларно п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њење б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ке и слободну др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урина, при сваком акту мокрења долази до ефикасне елиминације урина и бактерија. На целуларном нивоу бактерије нападају Пмн-и, об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их антитела и лизира их комплемент. Свако стање које нар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ва ове нормалне одбрамбене механизм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ни особу 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клоном инфекција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Висок степе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уретера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ог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реф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с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ВУР)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може повећати ризик 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елонефритис и он се среће код о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3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еце са АП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нгениталне аномал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кључујућ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сплаз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поплаз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бстр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повећавају ризик 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ВУ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елонефрити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43120" y="1447920"/>
          <a:ext cx="7386480" cy="4653000"/>
        </p:xfrm>
        <a:graphic>
          <a:graphicData uri="http://schemas.openxmlformats.org/drawingml/2006/table">
            <a:tbl>
              <a:tblPr/>
              <a:tblGrid>
                <a:gridCol w="2462040"/>
                <a:gridCol w="2608200"/>
                <a:gridCol w="2316240"/>
              </a:tblGrid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н колекције ури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ификантан број бактер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оватноћа инфекције (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прапубична аспир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ло који бро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териз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5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њи мл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д нормалне деце мускулатура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се релаксира као одговор на пуњење док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а не буде пуна: 20 - 50ml код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ди до 500 и 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мл код одраслих. При акту мокрења спонтане контракције детрусора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су релаксацијом спољ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јег сфинкте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д нормалне особе остаје мање од 20ml резидуалног урина после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складу са тим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фекција м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 да настане само ако довољно бактеријa остaне у резидуалном урин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Дисинергија сфинктер-детрусор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доводи до високог питиска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ња и трајног пост-притиска у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ц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м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 изазвати бубр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о 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њ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к и у одсуству инфекциј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Roberts, 1996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Сметње у функционисању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могу бити узроковане озбиљним обољењима, као у с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у неурогене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, или мањим функционалним поре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има од којих су неки повезани са психосоцијалним стресом или 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 навикама (ретко мокрењ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.coli изолована из урина показује по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ну тенденцију да ин витро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дхерира за периуретрал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вагиналне, као и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л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букалне слузо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них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на које су склоне рекурентној бактериурији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Ово указује на мог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 утицај генетских фактора, пр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му фактор који доприноси овој склоности м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бити присуство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 крвне групе (Shaefferet al, 1981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терлеукин (IL)-8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XCR1 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з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CE инсе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дел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CE I/D) г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орфоз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umor necrosis factor-[al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] 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орфизам су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г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енетски фактори дом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који представљају предиспозицију за ренално ожиљавање. Они су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идентификовани као потенцијални медијатори за фиброзу ткива и последично ствара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њ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е ожиљка у току АПН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.[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жина инфламације није 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а само нивоим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L1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L-6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ћ и њиховом функционалном способношћу (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а варијацијама у примарној структури ген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лиморфизам Taq 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+3953 C/T полиморфизам) у гену за IL1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лиморфизам -174 G/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гену за IL 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Деца са рекурентним ИУТ та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имају смањену уринарну секрецију IgA у по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у са здравом дец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је показано да 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и деца са понављаним ИУТ немају антигене од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ог типа крвне групе у из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винама као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су слуз и салива (тзв. нон-секретори). Претпоставља се да њихово присуство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да у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на пријањање уропатоге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рганизми који узрокују узлазну ИУТ настањују црева, тако да особе са уринарном инфекцијом морају имати рецепторе у цреву за ове бактерије (Flieder et al, 1986; Uehling, 1994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екције уринарног тракта (ИУТ), после респираторних инфекција, најчешће су бактеријске инфекције у детињств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LINIČKA SLIKA I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инички симптоми уринарне инфекције зависе од узраста, пола, локализације ИУТ, присуства анатомских абнормалности и претходних инфекциј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Код новорођенчади, одојчади и мале деце типични локализујући симптоми су обично одсут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јчешће клиничке манифестације ИУТ у новорођеначком узрасту подразумевају: ненапредовање (“failure to thrive”), губитак у тежини, одбијање оброка, дистензију трбуха, летаргију, узнемиреност, цијанозу, жутицу, пролив и повишену телесну температур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узрасту одојчета и малог детета до 2.године и даље је тешко локализовати ИУТ јер су симптоми некарактеристич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д уринарних симптома могу се наћи промењен изглед, боја и/или мирис урина, плач при микцији и учестало мокрењ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тзв. локализујући симптоми могу бити последица баланитиса (вулвовагинитиса) и локалне перинеалне иритациј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то треба искључити физикалним прегледом детет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роци дизуричних тегоба код девојчица у преадолесцентном период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окална ири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сока концентарција урина (дехидраци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роци локалне иритациј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пуни и детерџ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микалије у храни, пићу и лек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улвовагин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перкалциу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о деца постају старија ИУТ се чешће испољава симптомима који се односе на уринарни тракт док су системске манифестације лакше и ређе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изурија, учестало мокрење, енуреза и супрапубични бол указују на акутни циститис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Так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 се јавља акутна ретенција или инконтиненција ур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утни пијелонефритис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(АПН) се манифестује високом температуром понекад праћеном грозницом, лумбалним болом и осетљивошћу лумбалних ложа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абдоминалним болом и повраћањ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ЈАГНОЗА (АП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ишена температура &gt; 38.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уз системске поремећаје и лумбалну осетљивост као објективни зн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 &gt; 35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P &gt; 25 mg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еукоцитурија и леукоцитни цилинд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мањена осмоларност, тј. специфична тежина у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Jodal U., 1987)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калцитонин (PCT) прецизан маркер у дијагнози акутног пијелонефритиса (Smolkin i sar., 200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нзитивност 94,1% и специфичност  89,7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сте већ после 2-3х од инфекције, максималан ниво достиже после 12-24h, а по одстрањењу инфективног стимулуса рапидно пада на нормал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циденција и преваленција ИУТ у детињству нису тачно познате јер она често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остаје непрепозната због неспецифичности симпт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ли се погрешно дијагностикује као обољење других систе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нзитивност  100%, али екстремно ниска специфичност од само 18,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ив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T боље корелира са појавом реналних ожиљака нег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ртикална (статичка) сцинтиграфија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DMS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нзитивност 90%, специфичност 95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Majd i sar., 199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ДАЉЕ ЗЛАТНИ СТАНДАРД!!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L-6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L-8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у серуму и урину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релирају 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бубрежним оштећењем код одојчади и де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Т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а високом сензитив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81-88%)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 прихватљив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пецифич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78-83%)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ви маркер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мају исти значај у новорођеначком узрас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н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а ма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зитивно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50%)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у детекцији АП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м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ф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алн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абнорм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и 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мб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цији с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нивоом већим о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70 mg/L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гу указати на ренално ожиљавa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wer Doppler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у били у корелацији с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лаз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од АП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на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рис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ијагноз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уроли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а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о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ро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оурете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уретероцел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 дистензије беш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тандардне биохемијске анали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окалцитонин (PCT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до 0,5ng/m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нтерлеукин-1β (IL1β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нтерлеукин-6 (IL6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Радиолошка испитив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лтразвук уротракта (унутар 3-5 дан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UG унутар месец д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ртикална DMSA сцинтиграфија унутар 10 дана од инфекције и после 6 месец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енетске анал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лиморфизми у генима 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1β (TaqI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6 (-174G/C) 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E (I/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РАПИЈА И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јважњ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циљ л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њ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це са ИУТ ј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да се спреч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прогресивно ош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т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ећње бубрег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је може довести до хипертензије, компликација у трудноћ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рминалне ХБ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ронични пијелонефритис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рефлуксна нефропатија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стаје један од главних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узрока терминалне бубрежне инсуфицијенције у детињств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Учесталост ИУТ највећа је у првој години живо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кспериментално је доказано да је настанак и обим ожиљавања бубрега сразмеран времену трајања инфекције до пошетка лечењ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Почетак терапије после 3 дана од настанка инфекције не спречава стварање ожиљних промена паренх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иничка испитивања су показала да је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ризи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д настајања ожиљак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највећи у првој години живота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а да нови ожиљци ређе настају после седме годин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Приликом избора лек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и 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а његове апликације и код од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вања д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е и места (хоспитално или амбулантно)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а треб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зети у обзир узраст детета, 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у клини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ке слике и присуство структурних или функционалних абнормалности уринарног трак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оспитализација је неопход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ко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орођ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ади и одојчад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≤ 3 месе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ебрил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дој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д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≥ 3 месе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м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годин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арије 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е с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линич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м слик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АП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 и/или клинички компликованом И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деце са аномалијама уринарног трак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ликован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соко фебрилно(рецт.Т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≥3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C) i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линички болесно (интоксициран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ерзистентно повра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умерено до тешко дехидрир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едвиђа се лоша сарадња у лече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компликован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ебрилно(рецт.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≥3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C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али не изгледа болес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може да узима течност и леков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per 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о хидрирано или благо дехидрир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едвиђа се добра сарадњ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ерапију је најбоље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зап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ти одмах посл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физикалног прегледа болесника и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зимања узорка урина за бактериол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ки преглед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Код 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 болесне деце у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д н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ка се да дете мокри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се узорак урина узима супрапу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м аспирацијом под контролом ултразву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деце која нису фебрилна, а имају симтоме и знаке инфекције доњег дела уротракта, терапија се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одгодити до добијања резултата бактер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г прегледа урина, не д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од 48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е мере у терапији обухватају с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по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телесне температуре, оралну или парентералну рехидрацију,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ка (крв, плазма, слани физ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 раствори),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фебрилних конвулзија и других поре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терапији АПН-а разликују се две фаз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. иницијална, до идентификације уз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ка и антибиогр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. друга фаза, по добијању из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аја о сензитивности уз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ка на антимикробне лек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новорођеначком периоду ИУТ су од 2,3 - 8 пута чешће код мушке дец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узрасту од 2 до 6 месеци такође постоји предоминација мушког пола, док су у сваком каснијем периоду ИУТ чешће код женске де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се проводи парентералном применом лекова у трајању 3-5 дана, а затим, у зависности од стања болесника, наставља пероралном применом изабраног лека. На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се терапија примењује 7-1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д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еки аутори се за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за истовремену примену 2 лека, бар у узрасту до 18 месеци. Иницијална “битерапија” се об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о састоји од аминогликозида (по правилу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Гентамици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 и једног од сле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х лекова: Ампицилин-а, Амоксицилин-а (са или без клавулонске киселине), цефалоспорина и триметоприм-сулфометоксазола (TMP/SMX) (Bensman, 1991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 моделу експериментално изазваног АПН код пацова, показано је (путе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патохистолошки) да примена кетопофена или метилпреднизолона уз антбиотску терапију (цефтриаxон) смањује појаву ожиљака (Турс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ође је, клиничком студијом код деце са АПН (путе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ла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врђено да се увођењем вит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и вит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 у терапију превенира бубрежно ожиљавање (Ира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 скоро одобрил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ну ципрофлоксацина за лечење комликоване ИТУ и пијелонефритис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код деце, мада он није лек првог избора у педијатрији због утицаја на коштано-зглобни систем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рентерална терапија ИТУ код де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66800" y="1219320"/>
          <a:ext cx="7386480" cy="514980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о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ин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тамиц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лин: 100-200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(макс.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тамицин: 5-7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једној дози или 7,5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подељено у 3 до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еп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14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a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6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0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: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2g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отаx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28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a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00-150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: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-200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: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2g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6-8h 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1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триак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5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-2g za 24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профлокасц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го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:10-2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/na 12h/ 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1,5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eнт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200-400m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a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цијална монотерапија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се спроводити сваким од напред наведених леко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УТ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та се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по принципима за терапију сепс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За оралну терапију су погодни цефалоспорини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оксицилин/клавулонска киселина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котримоксазол,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нитрофурантоин, налидиксинска и пипемидинска кисел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Бактер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 и рутински преглед урина 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се 48-72 h од 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тка терапије, затим 2-3 дана по њеном прекиду и поново 2-3 недељe касниј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у треба избегавати код деце без симптома, јер је ерадикација узрочника асимптоматске батериурије који су ниске вириуленције, често праћена појавом симптомске инфекције или АПН са много вирулентнијим сојевима бактер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 овом најранијем животном добу ИУТ се најчешће клинички манифестују у виду акутног пијелонефритиса (АПН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осле из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а АПН-а треба д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антибактеријск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профилаксу све док се испитивањима не ис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ВУР или опструктивна уропат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Jones &amp; Asscher, 1992.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т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млађој од 2 године после прв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млађој од 5 година после прве компликoван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але индикације за профилакс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рецидивима АПН                               (до 6 месеци од последње епизод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реналним ожиљком после ИУТ која немају В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ВУР-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еца са рекурентном ИУТ по типу циститиса (више од 3/год)   4-6 месе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асимптоматском бактериуријом која је удружена са поремећајем актa мокрења (дисфункционално мокренј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рофилак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е дозе лекова не треба да п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30% терапијских доза, а дају се у једној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рњој дози. За профилаксу се користе: нитрофурантоин, TMP/SMX, налидиксинска и пипемидинска кисели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ампицилин, амоxицилин и ц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л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ФИЛАКТИЧНЕ ДОЗЕ ЛЕКОВА ИТУ КОД ДЕ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14520" y="1447920"/>
          <a:ext cx="7386480" cy="512100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О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P-SM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g /kg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 или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g/kg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x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љно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TM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фуранто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mg/kg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mg/kg/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ксицил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g/kg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але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g/kg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која имају честе инфекције под профилаксом може да користи “двострука” профилакса са котримоксазолом и нитрофурантои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компликованим аномалијама уротракта којима су потребне интермитентне катетеризације, често имају и асимптоматску бактериурију и симптоматску И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ва деца треба да се лече у терцијарним установама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Диференцијална дијагноз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ендиц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ктерием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wasack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јева бол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олитиј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токол испитривања после прв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133720" y="1143000"/>
            <a:ext cx="3124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а доказана И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З прегл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tg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сумња на калкулоз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52280" y="304812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&lt; 2 год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12920" y="2438280"/>
            <a:ext cx="2133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ормалан нал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7010280" y="2438280"/>
            <a:ext cx="1905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нормал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10"/>
          <p:cNvCxnSpPr>
            <a:stCxn id="278" idx="2"/>
            <a:endCxn id="281" idx="0"/>
          </p:cNvCxnSpPr>
          <p:nvPr/>
        </p:nvCxnSpPr>
        <p:spPr>
          <a:xfrm flipH="1" rot="16200000">
            <a:off x="5676120" y="152280"/>
            <a:ext cx="305280" cy="426780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AutoShape 11"/>
          <p:cNvCxnSpPr>
            <a:stCxn id="278" idx="2"/>
            <a:endCxn id="280" idx="0"/>
          </p:cNvCxnSpPr>
          <p:nvPr/>
        </p:nvCxnSpPr>
        <p:spPr>
          <a:xfrm rot="5400000">
            <a:off x="3334680" y="2077920"/>
            <a:ext cx="305280" cy="416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4" name="Rectangle 17"/>
          <p:cNvSpPr/>
          <p:nvPr/>
        </p:nvSpPr>
        <p:spPr>
          <a:xfrm>
            <a:off x="2286000" y="30481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2 - 5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4437000" y="3048120"/>
            <a:ext cx="1908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&gt; 5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6894360" y="304812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CUG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м)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n CG 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руга испитив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AutoShape 20"/>
          <p:cNvCxnSpPr>
            <a:stCxn id="281" idx="2"/>
            <a:endCxn id="286" idx="0"/>
          </p:cNvCxnSpPr>
          <p:nvPr/>
        </p:nvCxnSpPr>
        <p:spPr>
          <a:xfrm flipH="1">
            <a:off x="7961040" y="2742840"/>
            <a:ext cx="21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8" name="Rectangle 21"/>
          <p:cNvSpPr/>
          <p:nvPr/>
        </p:nvSpPr>
        <p:spPr>
          <a:xfrm>
            <a:off x="160200" y="414972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C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2276640" y="41497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4437000" y="4149720"/>
            <a:ext cx="1890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Р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AutoShape 24"/>
          <p:cNvCxnSpPr>
            <a:stCxn id="280" idx="2"/>
            <a:endCxn id="284" idx="0"/>
          </p:cNvCxnSpPr>
          <p:nvPr/>
        </p:nvCxnSpPr>
        <p:spPr>
          <a:xfrm flipH="1">
            <a:off x="3276360" y="2742840"/>
            <a:ext cx="36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" name="AutoShape 25"/>
          <p:cNvCxnSpPr>
            <a:stCxn id="280" idx="2"/>
            <a:endCxn id="279" idx="0"/>
          </p:cNvCxnSpPr>
          <p:nvPr/>
        </p:nvCxnSpPr>
        <p:spPr>
          <a:xfrm rot="5400000">
            <a:off x="2058120" y="1827360"/>
            <a:ext cx="305640" cy="2136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AutoShape 26"/>
          <p:cNvCxnSpPr>
            <a:stCxn id="280" idx="2"/>
            <a:endCxn id="285" idx="0"/>
          </p:cNvCxnSpPr>
          <p:nvPr/>
        </p:nvCxnSpPr>
        <p:spPr>
          <a:xfrm flipH="1" rot="16200000">
            <a:off x="4181760" y="1839600"/>
            <a:ext cx="305640" cy="211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94" name="Rectangle 27"/>
          <p:cNvSpPr/>
          <p:nvPr/>
        </p:nvSpPr>
        <p:spPr>
          <a:xfrm>
            <a:off x="16200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8"/>
          <p:cNvSpPr/>
          <p:nvPr/>
        </p:nvSpPr>
        <p:spPr>
          <a:xfrm>
            <a:off x="227664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MCUG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: ненормално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ушки пол,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APN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УР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жиљна нефропатиј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 породиц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исфункционал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крењ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439272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MCUG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: ненормал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цинтиграм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исфункционал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крењ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AutoShape 30"/>
          <p:cNvCxnSpPr>
            <a:stCxn id="279" idx="2"/>
            <a:endCxn id="288" idx="0"/>
          </p:cNvCxnSpPr>
          <p:nvPr/>
        </p:nvCxnSpPr>
        <p:spPr>
          <a:xfrm>
            <a:off x="1143000" y="3962520"/>
            <a:ext cx="86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" name="AutoShape 31"/>
          <p:cNvCxnSpPr>
            <a:stCxn id="288" idx="2"/>
            <a:endCxn id="294" idx="0"/>
          </p:cNvCxnSpPr>
          <p:nvPr/>
        </p:nvCxnSpPr>
        <p:spPr>
          <a:xfrm>
            <a:off x="1150920" y="5064120"/>
            <a:ext cx="216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AutoShape 32"/>
          <p:cNvCxnSpPr>
            <a:stCxn id="284" idx="2"/>
            <a:endCxn id="289" idx="0"/>
          </p:cNvCxnSpPr>
          <p:nvPr/>
        </p:nvCxnSpPr>
        <p:spPr>
          <a:xfrm flipH="1">
            <a:off x="3266280" y="3962520"/>
            <a:ext cx="104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AutoShape 33"/>
          <p:cNvCxnSpPr>
            <a:stCxn id="289" idx="2"/>
            <a:endCxn id="295" idx="0"/>
          </p:cNvCxnSpPr>
          <p:nvPr/>
        </p:nvCxnSpPr>
        <p:spPr>
          <a:xfrm>
            <a:off x="3266640" y="506412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AutoShape 34"/>
          <p:cNvCxnSpPr>
            <a:stCxn id="285" idx="2"/>
            <a:endCxn id="290" idx="0"/>
          </p:cNvCxnSpPr>
          <p:nvPr/>
        </p:nvCxnSpPr>
        <p:spPr>
          <a:xfrm flipH="1">
            <a:off x="5382720" y="3962520"/>
            <a:ext cx="86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AutoShape 35"/>
          <p:cNvCxnSpPr>
            <a:stCxn id="290" idx="2"/>
            <a:endCxn id="296" idx="0"/>
          </p:cNvCxnSpPr>
          <p:nvPr/>
        </p:nvCxnSpPr>
        <p:spPr>
          <a:xfrm>
            <a:off x="5382720" y="506412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9:26:33Z</dcterms:created>
  <dc:creator>Ana i Tamara</dc:creator>
  <dc:description/>
  <dc:language>en-US</dc:language>
  <cp:lastModifiedBy>User</cp:lastModifiedBy>
  <dcterms:modified xsi:type="dcterms:W3CDTF">2014-08-12T13:37:25Z</dcterms:modified>
  <cp:revision>25</cp:revision>
  <dc:subject/>
  <dc:title>Slide 1</dc:title>
</cp:coreProperties>
</file>